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7C85-ADC2-4138-ACB9-D8857A14E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87F6-ABAF-43E8-B91A-F2213CB63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B333-5B06-40DF-8DBD-89BE7714A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D3D3-624C-40A8-B260-3BEE9E21E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E7B3-D655-47EE-887F-FBCE54A8C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1B88-EC9D-4B39-B111-D9115FDB0D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1B33-790B-406B-810D-EE4C76C570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82D5-6EFC-4C38-BA87-5778749C0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F20E-0497-4EBD-919F-44E6ACC58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1F19-003C-4093-B5D9-464A31D6B4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AA84-E241-4B4A-871A-BD8C0691E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9D48-3748-4B56-B2D8-767DE46B0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38AF-330D-4C90-9833-B94F8F72D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5607-366B-42D7-BC29-2FBC75715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AF81-4991-4C91-833D-2280141ADC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 Ringer: 10-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title of the leader of Ancient Egypt call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monument that most of these people are buried 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most of these monuments located at in Ancient Egyp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3"/>
          <p:cNvSpPr/>
          <p:nvPr/>
        </p:nvSpPr>
        <p:spPr>
          <a:xfrm>
            <a:off x="7462800" y="624528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1E50-7264-4A53-A549-6A51207D74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17: If kids rule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18: Pharaoh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7462800" y="624528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F45E-E699-4AA5-BBDC-E99029AA08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Papyrus"/>
                <a:ea typeface="Papyrus"/>
              </a:rPr>
              <a:t>Responsibility</a:t>
            </a:r>
            <a:r>
              <a:rPr b="0" lang="en-US" sz="4400" spc="-1" strike="noStrike">
                <a:solidFill>
                  <a:srgbClr val="975500"/>
                </a:solidFill>
                <a:latin typeface="Papyrus"/>
                <a:ea typeface="Papyru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kings of Egy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absolute power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The Pharaoh</a:t>
            </a: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 owned-land, people, and possessions in Egy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Any King that attempted to radically change society would be seen as destroying the equilibrium that was so important to Egyptian tra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Succ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 Bold"/>
                <a:ea typeface="Arial Bold"/>
              </a:rPr>
              <a:t>eldest son born of the Que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The Pharaoh owned-land, people, and possessions in Egy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Any personal wealth enjoyed by Egyptians people was considered a result of the generosity of the 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500"/>
                </a:solidFill>
                <a:latin typeface="Papyrus"/>
                <a:ea typeface="Papyrus"/>
              </a:rPr>
              <a:t>M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Founder- 1</a:t>
            </a:r>
            <a:r>
              <a:rPr b="0" lang="en-US" sz="2800" spc="-1" strike="noStrike" baseline="30000">
                <a:solidFill>
                  <a:srgbClr val="d90b00"/>
                </a:solidFill>
                <a:latin typeface="Arial Bold"/>
                <a:ea typeface="Arial Bold"/>
              </a:rPr>
              <a:t>st</a:t>
            </a: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 Dyna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Ruled-3100-2850 B.C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800"/>
                </a:solidFill>
                <a:latin typeface="Arial Bold"/>
                <a:ea typeface="Arial Bold"/>
              </a:rPr>
              <a:t>First- to make upper and lower Egypt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He created the city of Memphis because of its good location. It would be easy top defend against any atta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He expanded his kingdom and developed commercial trade l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659640" y="0"/>
            <a:ext cx="2327040" cy="2462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881856" presetSubtype="299523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75500"/>
                </a:solidFill>
                <a:latin typeface="Papyrus"/>
                <a:ea typeface="Papyrus"/>
              </a:rPr>
              <a:t>Akena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Original name was Amonhotep 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Reigned 1350-1334 B.C.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King Tuts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He wanted to change the Egyptian supreme god from Amon-Re to A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Therefore he changed his name to Akenaton which means “he who serves At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New city called Akheta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 Bold"/>
                <a:ea typeface="Arial Bold"/>
              </a:rPr>
              <a:t>He was the first to try and change Egyptian reli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Remembered for trying to introduce monothe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732720" y="0"/>
            <a:ext cx="2122200" cy="28414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3360"/>
            <a:ext cx="8229600" cy="1565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7100"/>
                </a:solidFill>
                <a:latin typeface="Papyrus"/>
                <a:ea typeface="Papyrus"/>
              </a:rPr>
              <a:t>Ram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7273800" cy="52293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Went to the throne at the age of 20 and reigned for 67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This was the second longest reign for any Egyptian King</a:t>
            </a:r>
            <a:r>
              <a:rPr b="0" lang="en-US" sz="2400" spc="-1" strike="noStrike">
                <a:solidFill>
                  <a:srgbClr val="ff0000"/>
                </a:solidFill>
                <a:latin typeface="Arial Bold"/>
                <a:ea typeface="Arial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old"/>
                <a:ea typeface="Arial Bold"/>
              </a:rPr>
              <a:t>Constructing many architectural mar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Built more statues than any other Egyptian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Monument- huge temples at Abu Simb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Ramses had over 100 childr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7493040" y="189000"/>
            <a:ext cx="1650960" cy="2235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7124760" y="3641760"/>
            <a:ext cx="2376360" cy="1655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97100"/>
                </a:solidFill>
                <a:latin typeface="Papyrus"/>
                <a:ea typeface="Papyrus"/>
              </a:rPr>
              <a:t>Khuf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3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Khufu lived from</a:t>
            </a: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 2589-2566 B.C.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He </a:t>
            </a: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reigned=24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Khufu is </a:t>
            </a: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most remembered for building Great Pyramid of Gi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The pyramid originally stood </a:t>
            </a: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481 feet t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old"/>
                <a:ea typeface="Arial Bold"/>
              </a:rPr>
              <a:t>Khufu had many sons but the one chosen to be his successor was Djedef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 Bold"/>
                <a:ea typeface="Arial Bold"/>
              </a:rPr>
              <a:t>Mounement- Great Pyramid and even today it’s still a mystery to how it was bui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405480" y="-330120"/>
            <a:ext cx="2586240" cy="260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3203640" y="5157720"/>
            <a:ext cx="2736720" cy="1562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cp:keywords/>
  <dc:language>en-US</dc:language>
  <cp:lastModifiedBy>Tyler Daughtry</cp:lastModifiedBy>
  <cp:lastPrinted>2013-10-09T12:39:51Z</cp:lastPrinted>
  <dcterms:modified xsi:type="dcterms:W3CDTF">2013-10-09T12:47:31Z</dcterms:modified>
  <cp:revision>7</cp:revision>
  <dc:subject/>
  <dc:title>Pharaohs of Egypt</dc:title>
</cp:coreProperties>
</file>